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0849-5ED0-4042-ADC7-8DA8090CE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0639-CB38-45A5-878C-C72AE830A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0097-43B9-4982-B57E-E16C38D03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F69-0CE5-4923-9A83-F1CDA4AFE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C281-C203-4C7C-9222-B6FA9CB6B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25E-350D-41B7-AB61-ECB9A05F0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72E-EB45-48A9-BF50-29B098951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8E3-8BCA-40C6-9645-753547FCC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698-A7F4-451B-8EF9-95D4530F4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C95-D543-4B94-B6EB-A14D6E161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943-B07E-418A-91CA-24386ECFF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9549-931B-4887-BBC2-6290F911E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1A7-247B-474E-B500-93D37F51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1A8-0CD3-4BB0-B16B-65CF4A52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303-DEA5-428B-88A7-7B3C4FDE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CDE-DB3E-433A-832E-74622E0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632-8F57-4719-B411-49049342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D3C-5A0F-4A93-8CBA-98A77BB7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ED3-CBA8-4300-B362-A8F1AB13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4EB-6692-446B-854A-E21D1EA0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8CC-E9EE-4BB7-A208-6011509F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A8A2-8EEE-409C-B6B1-E4D9AE98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691-B3A5-4022-BF0A-B97EF33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2DF-00BC-456E-9630-2065A137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005f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6AA2-2BDB-41B0-889C-5A4327733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erfect T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pañol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ítulo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orm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er + past parti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ado, ~ i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í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ame irregulars as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 perf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ra practicar. .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d g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 habíamos 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d liv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os habían vivi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had stud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a había estudi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ad writ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ú habías escri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Jeff\Local Settings\Temporary Internet Files\Content.IE5\UKKGQAN9\MCj04323710000[1].wmf"/>
          <p:cNvPicPr/>
          <p:nvPr/>
        </p:nvPicPr>
        <p:blipFill>
          <a:blip r:embed="rId1"/>
          <a:stretch/>
        </p:blipFill>
        <p:spPr>
          <a:xfrm>
            <a:off x="6858000" y="4648320"/>
            <a:ext cx="18064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fect T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many perfect ten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Per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l pretérito perfec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ast Perfec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l pretérito pluscuamperfec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Perfect Subjun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uture Per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onditional Per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térito perfect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known as the PRESENT PREFECT 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refer to the past or to talk about something specific that HAS HAPPENED rec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ve you done (recently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 tense (2 pa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Jeff\Local Settings\Temporary Internet Files\Content.IE5\0EXN8001\MPj04387050000[1].jpg"/>
          <p:cNvPicPr/>
          <p:nvPr/>
        </p:nvPicPr>
        <p:blipFill>
          <a:blip r:embed="rId1"/>
          <a:stretch/>
        </p:blipFill>
        <p:spPr>
          <a:xfrm>
            <a:off x="6553080" y="4267080"/>
            <a:ext cx="20242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you form this ten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helping verb + the PAST participle of a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st parti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é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Jeff\Local Settings\Temporary Internet Files\Content.IE5\0EXN8001\MCj04244660000[1].wmf"/>
          <p:cNvPicPr/>
          <p:nvPr/>
        </p:nvPicPr>
        <p:blipFill>
          <a:blip r:embed="rId1"/>
          <a:stretch/>
        </p:blipFill>
        <p:spPr>
          <a:xfrm>
            <a:off x="6400800" y="4495680"/>
            <a:ext cx="1974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a particip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articiple of a verb is often equal to the English ending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–e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an be used as an ADJECTIVE or in a COMPOUND VERB formation with the verb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s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est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n this case you MUST make it agree (m, f, s, 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ee pg. 29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the following end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 verbs --- 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R &amp; ER verbs --- 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participle 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irregulares en el part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614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7325640" y="65530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gs 288 en ch.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mos. .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st Perfect Ten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imular to the Present Perfect T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Compound tense (2 pa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escribes an event that HAD HAPPENED prior to another past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Documents and Settings\Jeff\Local Settings\Temporary Internet Files\Content.IE5\5S0S1KB2\MCj04298270000[1].wmf"/>
          <p:cNvPicPr/>
          <p:nvPr/>
        </p:nvPicPr>
        <p:blipFill>
          <a:blip r:embed="rId1"/>
          <a:stretch/>
        </p:blipFill>
        <p:spPr>
          <a:xfrm>
            <a:off x="4724280" y="44956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6408000" y="472428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ño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o es más fac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314120" y="556272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ú eres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ligent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0:00:18Z</dcterms:created>
  <dc:creator>Home User</dc:creator>
  <dc:description/>
  <dc:language>en-US</dc:language>
  <cp:lastModifiedBy>Maple Lake</cp:lastModifiedBy>
  <dcterms:modified xsi:type="dcterms:W3CDTF">2009-03-13T14:14:27Z</dcterms:modified>
  <cp:revision>5</cp:revision>
  <dc:subject/>
  <dc:title>The Perfect Tenses</dc:title>
</cp:coreProperties>
</file>